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2.png" ContentType="image/png"/>
  <Override PartName="/ppt/media/image6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4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FCB9-34DB-4059-8B6B-6EC5801EE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emplate can be used as a starter file for presenting training materials in a group set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-click on a slide to add sections. Sections can help to organize your slides or facilitate collaboration between multiple auth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Notes section for delivery notes or to provide additional details for the audience. View these notes in Presentation View during your present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n mind the font size (important for accessibility, visibility, videotaping, and online produ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ordinated colo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 particular attention to the graphs, charts, and text box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at attendees will print in black and white or grayscale. Run a test print to make sure your colors work when printed in pure black and white and graysca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raphics, tables, and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t simple: If possible, use consistent, non-distracting styles and col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el all graphs and t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464B-7A61-4DD5-88D4-FFEAA8B807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E4A5-BF1C-429D-B00F-B22C30B9D89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1ED9-662E-4CE3-87EB-F29ED7405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A947-BBCA-4943-B81A-12E005F6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AC29-021E-457E-AE65-B9F9A53E7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AA55-1CF9-4F9D-8556-AF124CE76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90FB-C8DB-40FF-9FE2-A596DB20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A4C2-1738-4E36-A4F1-273DBA61B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46E9-AD92-42BD-98A6-594C8450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6F67-9F63-4223-97EB-67291DA7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C4C3-9BB2-4CDE-8688-2BF9D681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8390-390B-4398-89E4-95436EA4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A095-84DF-4C55-8931-9D342056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2097-6854-4AAC-B4DF-DDDE0663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6721-69E4-4A7F-8D19-0B889D9D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EF90-3508-407D-A01B-538005A7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E28B-B626-4D91-AD91-8C641009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D3AA-16EA-437D-BE38-C46141A0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2B8E-C9E0-44EA-9C5A-59A76BD2E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AED6-60A9-4DB3-A92B-058964D91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E8F56-F7A9-4AB4-B70D-94FEC760A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DC4EA-EC10-401E-A672-C95BC4CC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A26AE-2E70-42C8-A390-4F6AD1BB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5109-2135-4D9D-8994-E53E8707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F1B38-A124-4953-85B0-B27362E6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3B5C3-E63A-4FF0-B71E-92385812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BBBEC-320F-45E6-BB90-216B3631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D1AD9-34E2-4430-BF47-A2F77D10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2A233-F9A5-41C1-9538-4806C0ED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5E165-F270-4D65-B384-886E90F8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E45EB-CBE6-494C-9C67-7595B266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D31E5-6673-4BC5-80A4-B70CFDFD1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54FEE-B1BE-480F-AC9E-586B6F90A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87EF3-89A6-414C-8B1D-A09E19D84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BD33-EAB9-4BDA-A22B-689DDA2C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DAD5F-40AC-423D-AF1C-0630862E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43037-E957-4062-B63B-6BE60FFD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E0700-49A7-4912-A915-9235D7EE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875CF-6814-4B91-80BE-DE043357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17887-6A5F-4C45-9ABF-C890ECEA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C5F4E-D0C5-4F4A-9DB5-1BDD2B2D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87A35-1D14-406C-A0EC-AAFA417E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20A0C-14C0-42DF-8FF1-E788C7A2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8B6FC-8931-413D-BF67-118DA668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BB2A3-3F2A-4A24-9E11-B6F66100B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3F28-BF19-4482-904A-41723616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9A8B4-D645-40D2-84F8-1CEAC4713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F6D47-186F-4BAC-AFD4-063EDEF35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7F05A-FCE1-415E-8FD0-25CC6581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1BC7D-DAC2-4607-99EE-7ED505DE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1F24C-7BB4-4C3E-8AB4-A1A6DB7B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36F4B-503E-4FA0-A065-A5A784C0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EA907-A3E1-4575-873F-6998431A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E0490-9874-41AD-A9EC-5FC76A9F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8483D-D70D-484C-A956-B015A164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DB9F1-05F2-40FE-82C3-B44BF86C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0A95-F32E-4953-97A9-7017396D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002A7-58FD-44AA-9321-D6BE8DFB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FD8AC-7B01-465C-A100-C0C43152C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12E05-3427-4277-BB04-056DA7E84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D30B-6D47-4BFB-9DF7-56DA33AE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58D6-ADC2-4BF4-B9FF-9A04553C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8573-6802-4646-8E40-F2AEDC21F7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0" y="1440"/>
            <a:ext cx="37209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-15840" y="0"/>
            <a:ext cx="9172440" cy="28195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7E67-FA30-4325-BFAE-02AB01CFB9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4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A986-F05E-457A-831C-F6B261AB8C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3537-7C5D-4199-A3BD-488B5929AE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5EFE-AC46-438E-957E-0CF87B5F9B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90560" y="2285640"/>
            <a:ext cx="618012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alibri"/>
              </a:rPr>
              <a:t>ROLE OF MEDICAL ANTHROPOLOGY IN PUBLIC HEALTH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3962160" y="4038480"/>
            <a:ext cx="4771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ahaduz Zaman Ph.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castle University, U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Diagram 2" descr=""/>
          <p:cNvPicPr/>
          <p:nvPr/>
        </p:nvPicPr>
        <p:blipFill>
          <a:blip r:embed="rId1"/>
          <a:stretch/>
        </p:blipFill>
        <p:spPr>
          <a:xfrm>
            <a:off x="1523880" y="1395360"/>
            <a:ext cx="6096240" cy="406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0" name="Object 2"/>
          <p:cNvGraphicFramePr/>
          <p:nvPr/>
        </p:nvGraphicFramePr>
        <p:xfrm>
          <a:off x="0" y="11592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29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592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xplanatory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llness narr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ay caus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ational for choosing heal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mpact on lif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arallel health sect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Diagram 1" descr=""/>
          <p:cNvPicPr/>
          <p:nvPr/>
        </p:nvPicPr>
        <p:blipFill>
          <a:blip r:embed="rId1"/>
          <a:stretch/>
        </p:blipFill>
        <p:spPr>
          <a:xfrm>
            <a:off x="1030320" y="176040"/>
            <a:ext cx="8126280" cy="6469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Diagram 1" descr=""/>
          <p:cNvPicPr/>
          <p:nvPr/>
        </p:nvPicPr>
        <p:blipFill>
          <a:blip r:embed="rId1"/>
          <a:stretch/>
        </p:blipFill>
        <p:spPr>
          <a:xfrm>
            <a:off x="-12600" y="115920"/>
            <a:ext cx="9132840" cy="674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agram 1" descr=""/>
          <p:cNvPicPr/>
          <p:nvPr/>
        </p:nvPicPr>
        <p:blipFill>
          <a:blip r:embed="rId1"/>
          <a:stretch/>
        </p:blipFill>
        <p:spPr>
          <a:xfrm>
            <a:off x="-6480" y="0"/>
            <a:ext cx="9217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ealth educ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Content Placeholder 3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6265800" cy="396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11488b"/>
                </a:solidFill>
                <a:latin typeface="Calibri"/>
              </a:rPr>
              <a:t>How population developed health perception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2" name="Content Placeholder 3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8101080" cy="5877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11488b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is therefore important to consider the following question while thinking of  policies in health interven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Diagram 1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621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nical  Medicine and Public Health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457200" y="1600200"/>
          <a:ext cx="8229600" cy="4799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6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ical Medicin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Health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ble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ncer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ck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ck and Health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urp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Promotion and Disease 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Diagram 1" descr=""/>
          <p:cNvPicPr/>
          <p:nvPr/>
        </p:nvPicPr>
        <p:blipFill>
          <a:blip r:embed="rId1"/>
          <a:stretch/>
        </p:blipFill>
        <p:spPr>
          <a:xfrm>
            <a:off x="1116000" y="-12600"/>
            <a:ext cx="8028000" cy="6883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iomedicine and Medical sett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spital Ethnograph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Content Placeholder 3" descr=""/>
          <p:cNvPicPr/>
          <p:nvPr/>
        </p:nvPicPr>
        <p:blipFill>
          <a:blip r:embed="rId1"/>
          <a:stretch/>
        </p:blipFill>
        <p:spPr>
          <a:xfrm>
            <a:off x="2340000" y="1989000"/>
            <a:ext cx="5327640" cy="360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edicine ta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Content Placeholder 3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5832360" cy="3743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ealth policy situation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olicy Triangle Fra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Content Placeholder 3" descr=""/>
          <p:cNvPicPr/>
          <p:nvPr/>
        </p:nvPicPr>
        <p:blipFill>
          <a:blip r:embed="rId1"/>
          <a:stretch/>
        </p:blipFill>
        <p:spPr>
          <a:xfrm>
            <a:off x="914400" y="1420920"/>
            <a:ext cx="777240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edical histo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Picture 4" descr="fluhospital2"/>
          <p:cNvPicPr/>
          <p:nvPr/>
        </p:nvPicPr>
        <p:blipFill>
          <a:blip r:embed="rId1"/>
          <a:stretch/>
        </p:blipFill>
        <p:spPr>
          <a:xfrm>
            <a:off x="762120" y="2362320"/>
            <a:ext cx="769608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aster  ( Natural and Man Mad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Picture 1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34364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17440"/>
            <a:ext cx="85788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1488b"/>
                </a:solidFill>
                <a:latin typeface="Calibri"/>
              </a:rPr>
              <a:t>How Medical Anthropology contributes in public healt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06520"/>
            <a:ext cx="380988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Content Placeholder 9" descr=""/>
          <p:cNvPicPr/>
          <p:nvPr/>
        </p:nvPicPr>
        <p:blipFill>
          <a:blip r:embed="rId1"/>
          <a:stretch/>
        </p:blipFill>
        <p:spPr>
          <a:xfrm>
            <a:off x="0" y="1401840"/>
            <a:ext cx="9144000" cy="5468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228600" y="115920"/>
          <a:ext cx="8915400" cy="683424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  <a:gridCol w="2971800"/>
              </a:tblGrid>
              <a:tr h="1355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ical Medicine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Health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9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als wit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copic Patholog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 Patholog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1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mun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 comes to the provi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r goes to the cli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hilosoph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 orie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orie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ubject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ine, Surgery. Gynecolog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demiology, Statistics, Economics, Anthropology, Political scienc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Content Placeholder 3" descr=""/>
          <p:cNvPicPr/>
          <p:nvPr/>
        </p:nvPicPr>
        <p:blipFill>
          <a:blip r:embed="rId1"/>
          <a:stretch/>
        </p:blipFill>
        <p:spPr>
          <a:xfrm>
            <a:off x="0" y="-146160"/>
            <a:ext cx="9144000" cy="7016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Diagram 1" descr=""/>
          <p:cNvPicPr/>
          <p:nvPr/>
        </p:nvPicPr>
        <p:blipFill>
          <a:blip r:embed="rId1"/>
          <a:stretch/>
        </p:blipFill>
        <p:spPr>
          <a:xfrm>
            <a:off x="109440" y="176040"/>
            <a:ext cx="8858520" cy="6578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792440" y="5013000"/>
            <a:ext cx="54864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ocial determinants of Healt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Placeholder 4" descr=""/>
          <p:cNvPicPr/>
          <p:nvPr/>
        </p:nvPicPr>
        <p:blipFill>
          <a:blip r:embed="rId1"/>
          <a:stretch/>
        </p:blipFill>
        <p:spPr>
          <a:xfrm>
            <a:off x="1187280" y="690480"/>
            <a:ext cx="6769440" cy="41068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aying attention to Causes of Causes’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Medical Anthropologists do?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Explores peoples health seeking behaviour and parallel health sec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ontributes in developing and communicating health inform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Tries to understand biomedicine and medical setting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Explores the social, political and economic health policy environmen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Learn about medical histor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Helps to find out ways to deal with disaster situation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eoples Health seeking behavio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1488b"/>
                </a:solidFill>
                <a:latin typeface="Comic Sans MS"/>
              </a:rPr>
              <a:t>Medical  Pluralism </a:t>
            </a:r>
            <a:r>
              <a:rPr b="0" lang="en-GB" sz="4400" spc="-1" strike="noStrike">
                <a:solidFill>
                  <a:srgbClr val="11488b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2514600" y="1219320"/>
            <a:ext cx="4267080" cy="26845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opular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685800" y="3870360"/>
            <a:ext cx="3886200" cy="21283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rofressional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4572000" y="3429000"/>
            <a:ext cx="350532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olk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4267080" y="5334120"/>
            <a:ext cx="129564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5410080" y="5791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ossible overla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Line 14"/>
          <p:cNvSpPr/>
          <p:nvPr/>
        </p:nvSpPr>
        <p:spPr>
          <a:xfrm flipH="1" flipV="1">
            <a:off x="2057040" y="1523520"/>
            <a:ext cx="12193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 Box 15"/>
          <p:cNvSpPr/>
          <p:nvPr/>
        </p:nvSpPr>
        <p:spPr>
          <a:xfrm>
            <a:off x="0" y="1371600"/>
            <a:ext cx="2362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individ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fam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commun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16"/>
          <p:cNvSpPr/>
          <p:nvPr/>
        </p:nvSpPr>
        <p:spPr>
          <a:xfrm>
            <a:off x="3962520" y="3429000"/>
            <a:ext cx="753840" cy="2112840"/>
          </a:xfrm>
          <a:prstGeom prst="rect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20"/>
          <p:cNvSpPr/>
          <p:nvPr/>
        </p:nvSpPr>
        <p:spPr>
          <a:xfrm>
            <a:off x="7238880" y="152388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7238880" y="1523880"/>
            <a:ext cx="1676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Not part of official medical syste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Line 25"/>
          <p:cNvSpPr/>
          <p:nvPr/>
        </p:nvSpPr>
        <p:spPr>
          <a:xfrm flipV="1">
            <a:off x="6781680" y="2924280"/>
            <a:ext cx="1067040" cy="1495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 Box 26"/>
          <p:cNvSpPr/>
          <p:nvPr/>
        </p:nvSpPr>
        <p:spPr>
          <a:xfrm>
            <a:off x="304920" y="6324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egally sanction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Line 27"/>
          <p:cNvSpPr/>
          <p:nvPr/>
        </p:nvSpPr>
        <p:spPr>
          <a:xfrm flipH="1">
            <a:off x="1523520" y="4876920"/>
            <a:ext cx="83844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12:02:04Z</dcterms:created>
  <dc:creator/>
  <dc:description/>
  <dc:language>en-US</dc:language>
  <cp:lastModifiedBy/>
  <dcterms:modified xsi:type="dcterms:W3CDTF">2013-12-08T19:16:59Z</dcterms:modified>
  <cp:revision>1</cp:revision>
  <dc:subject/>
  <dc:title/>
</cp:coreProperties>
</file>